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4A56-D502-4760-A3A6-75801CBC4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FCE2-408E-430F-99BC-52405D412D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1117440" y="878040"/>
            <a:ext cx="4618080" cy="316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1060200" y="4351320"/>
            <a:ext cx="47307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2259-0A9D-4E97-829D-3A55BA7F9D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AE19-486E-495A-A1AC-12330A2D79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4E05-B1D9-4B7F-97D9-58562BCF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3DBF-D186-4A65-A1AB-CD89BA8F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634B-A96B-4258-B29A-0C8E53A8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0DDD-00F0-4163-A79C-52E3B11C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8631-6045-4552-B7BE-7B121C2D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7EE2-9E69-49CD-A124-58B5D3E6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2907-85AE-4E11-9A7D-7A55D524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FAA3-DA45-4923-B5A3-857EC809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1464-AB00-4E6D-8B0D-28D3B745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0CCC-2312-4C7E-AF26-791F2144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C1FC-7B63-49EF-BC65-B6EFEF0D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6DD5-653A-4C2F-A507-B2870542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7D14-49FE-4F45-8D4E-72867C48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8A4F-0D3D-4C23-8698-D416659A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3192-6EC2-493D-B36F-10CCE72E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768C-932F-43BB-B356-BA2BA7013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AB25-85E2-4F00-833D-005CA9FD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4F3D-59C0-468C-BD8A-E1A8F987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3666-B883-4E67-B848-4C3F1CA7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5106-605D-4BE5-B3EA-6ABD3DBC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A64-BA1B-4377-A04C-724D7C57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AB1A-78FF-4051-98B0-A9F53C43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B4BF-6B8A-47EB-8A77-DD2DF21B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3DF3-B73F-4106-98E2-C58DE059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6C79-2A4E-49BE-A50D-F41C89C72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0B13-F0A1-4263-A05D-9A02138971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Мостови 2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66"/>
                </a:solidFill>
                <a:latin typeface="Arial"/>
              </a:rPr>
              <a:t>Подела мостов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Планирање мостова великог распона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Висина тела моста пове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ава 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врстину и отпорност тела много ви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е од 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ирине. Пове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ање 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врстине иде са геометријском прогресијом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, нп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р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.-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ако је висина моста 5мм код исте 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ирине и ду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ине 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врстина моста је 25.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Ако се висина моста пове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а на 10мм при истим условима 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врстина моста се пове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ава на 100.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Висина моста треба да буде најмање једнака 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ирини моста или да је ве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а (х=а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или х&gt;а ) у супротном треба да се смањи 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ирина или хиру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ким путем да се нивели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е алвеоларни гребен да би се обезбедио простор за ве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у висину моста.</a:t>
            </a:r>
            <a:r>
              <a:rPr b="1" lang="sr-Latn-CS" sz="31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ffff66"/>
                </a:solidFill>
                <a:latin typeface="Arial"/>
              </a:rPr>
              <a:t>Ако нема довољне висине израда моста је контраиндикован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Када је висина мала а треба да се уради хигијенски мост који треба да одстоји од гингиве 2-3мм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рстина моста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 бити недовољна и дов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 до деформације тела моста и до повла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ња носа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 према безубом простор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Довољно велика висина омогу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ва да се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ланови могу да фасетирају са вестибуларне и оклузалне стране.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На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рстину моста ути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 и распон изм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у зуба носа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 тј. ду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на тела моста која у најбољем слу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ју не треба да је в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 од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2 изгубљена зуба у б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ној регији или у повољним условима и са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редукцијом оклузалне повр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не за 1/3 да надом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та 3 изгубљена зуб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Дебљина тела моста пов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ва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врстину моста али тако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 пов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ва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утро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к племенитог метала док фасетирање смањује дебљину тела.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врстина тела моста зависи од тврдо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 и отпорности матер</a:t>
            </a:r>
            <a:r>
              <a:rPr b="1" lang="sr-RS" sz="3200" spc="-1" strike="noStrike">
                <a:solidFill>
                  <a:srgbClr val="ffff66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јала. Од златних легура за фиксне протезе најотпорнија је 20-каратна легура платинског злата.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Легуре од 22-24 карата с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у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мекане. Легуре на бази паладијум-сребр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одговарају легурама злата из III и IV групе тврдо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 по Бринелу и потпуно одговарају за израду тела мо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391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Легуре за метал-керамику су довољно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рст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отпорн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могу се изра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вати са смањеним димензијама и оклузалн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им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фасетира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њем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3.ГИНГИВАЛНИ ДЕО ТЕЛА МО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Однос тела моста према ткиву алвеоларног гребена мозе би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линеаран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(хигијенски-тангенцијалан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повр</a:t>
            </a:r>
            <a:r>
              <a:rPr b="1" lang="sr-Latn-CS" sz="2800" spc="-1" strike="noStrike">
                <a:solidFill>
                  <a:srgbClr val="ffcc00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ински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или полуседласт тј. полу-хигијенс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седласт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односно нехигијенски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Гингивални део моста је зна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јан за хигијену уста и зуба,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природни изглед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стетику и фон</a:t>
            </a:r>
            <a:r>
              <a:rPr b="1" lang="sr-RS" sz="2800" spc="-1" strike="noStrike">
                <a:solidFill>
                  <a:srgbClr val="ffff66"/>
                </a:solidFill>
                <a:latin typeface="Arial"/>
              </a:rPr>
              <a:t>ацију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Хигијена фиксних конструкција се одр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ва само у устима пацијента због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га тело моста треба да има такав облик који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 омогу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ти да се хигијена овог дела моста одр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ва физиол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ки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м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сам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њем (уз пом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језика,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усана,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образа) и механи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ким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њем уз пом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ткице за зубе.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С друге стране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ланови тела моста треба да буду оформљени тако да се постигне опти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ки утисак да се ради о природним зубима.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Ова два захтева за гингивални део тела моста могу т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ко да се усагласе у свим деловима горње и доње вилице.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Постоје невидљиви,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слабо видљиви и добро видљиви предели па према томе логи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но је да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 у одр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ним местима бити 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дс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тупања од горе одр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них захте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Коректно р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вање хигијенских захтева пости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 се удаљавањем тела моста од алвеоларног гребена. То за природан естетски изглед и фонетику у в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ни слу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јева није пр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хватљив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У пределу молара доње вилице гингивални делови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ланова моста се налазе у подру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ју које није видљиво. Ту су индицирани мостови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је је тело удаљено од гингиве. То растојање тела моста од гингиве м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 бити 1-3мм. Такви мостови су познати ка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хигијенски мостови. Али није исто да ли је тело моста на растојању од само 1мм или од 2-3мм од слузок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 алвеоларног гребе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Хигијенски мостови са малим растојањем од 1мм имају високе 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ланове моста, 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то пове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ава њихову 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врстину и могу се букално фасетирати. Иако је растојање тела моста од алвеоларног гребена мало јо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 увек је омогу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ено добро одр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авање хигијене. Хигијенски мостови са растојањем од слузоко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е 2-3мм олак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авају спрово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ење хигијене. Фасетирање букалне стране није могу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е али није ни зна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ајно обзиром да се зуби у овом делу не виде. Ме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утим пацијенти нису психи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ки задовољни, јавља се нов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и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 проблем-размак изме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у моста и слузоко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е смета   пацијентима, такви мостови се не прихватају са задовољством и изазивају психи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ки немир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Израда хигијенских мостова са растојањем 2-3м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од слузоко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е је данас напу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тена и препору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у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се да размак изме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у тела моста и слузоко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е буд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мали (око 1мм) 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то се обезбе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ује облагање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модела тела моста алуминијумском фолијом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хигијенско тело мо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Друга могу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ност је да тело моста буде у благ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додиру, без притиска на гингиву. То ј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тангенцијални додир-линеарни додир. Линеар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додир није строго геометријски ве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је гингивалн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део моста лако заобљен са 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ирином од 1-2м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Попре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ни пресек тела мо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е имати изду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ен обл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или облик срца, 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то зависи од висине моста. 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омогу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ава да на оралној страни 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ланови мос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имају прибли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но морфоло</a:t>
            </a:r>
            <a:r>
              <a:rPr b="1" lang="sr-Latn-CS" sz="24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ки природан обл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који не смета језику и он се лако адаптира на тај облик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6821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Пацијенти лако прихватају овај облик а он потпома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 хигијену и за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титу слузоко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 физиоло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ким кли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њем хране при мастикацији. Тако је избегнут “мртви угао” са лингвалне стра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Линеарни додир на алвеоларном гребену се усагла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ва са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рином гребена. Уском алвеоларном гребену одговара узан гингивални део тела моста и обрнуто. Комбинација узаног гребена и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роког тела моста или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роког гребена и узаног тела ствара степенике и “мртве просторе” који от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вају одр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вање хигије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560" y="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Када се тело хигијенског моста фасетира,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ланови се сепарирају са вестибуларне и оралне стране, то мостну конструкцију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ни пријатном за пацијента. Сепарација није дубока да се не добијају мртви углови и да не ослаби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рстина моста.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ланови су благо конвексни и не дозвољавају да храна код мастикације 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т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ује гингиву. Благи линеарни додир тела са гингивом и како се тело моста односи према слузок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 зависи од материјала од кога се изра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ује мостна конструкција. Несме деловати хемијски, токсикол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ки или алергијски на гингиву. Најиндиферентнији према гингиви је глазирани порцелан, затим високо полирани метал а најмање акрила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Морфологија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-рељеф оклузалне повр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не се моделира у складу са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морфологијом оклузалних повр</a:t>
            </a:r>
            <a:r>
              <a:rPr b="1" lang="sr-Latn-CS" sz="3200" spc="-1" strike="noStrike">
                <a:solidFill>
                  <a:srgbClr val="ffcc00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ина преосталих зуба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. То говори да све протетске надокнаде треба да се раде на моделима целе вилице, са контролом оклузије и артикулације тј. у артикулатору. То омогу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ва да се јо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на моделу направи реоклузија и реартикулација.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Тако се избегавају високе квр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це и косе повр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не на њи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66"/>
                </a:solidFill>
                <a:latin typeface="Arial"/>
              </a:rPr>
              <a:t>У слабо видљивим подручјима доњих премолара и горњих других молара а по некад и горњих првих молара чланови тела моста се моделирају са тангенцијалним додиром у односу на слузокожу да би се постигао природан изглед и добра хигије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sr-CS" sz="2800" spc="-1" strike="noStrike">
                <a:solidFill>
                  <a:srgbClr val="ffff66"/>
                </a:solidFill>
                <a:latin typeface="Arial"/>
              </a:rPr>
              <a:t>Тело моста иде до ивице алвеоларног гребена или нешто вестибуларније а додир са слузокожом је сасвим благ и без притиска. Чланови моста гингивално се више сепарирају као што су интерденталне папиле код природних зуба. Ове сепарације су потребне због естетике и хигијене јер омогућују слободну циркулацију пљувачке и механичко чишћење зуба и слузокож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497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66"/>
                </a:solidFill>
                <a:latin typeface="Arial"/>
              </a:rPr>
              <a:t>У добро видљивим подручјима фронталног дела однос тела моста према слузокожи алвеоларног гребена мора бити широк површински додир полуседласт или седласт али без компресије. Оваква конструкција одговара естетским и фонетским захтевима. Зуби имају природан изглед, облик и величину. Мора са одбацити питање радирања модела да би се добио утисак да зуби полазе из алвеоле. Овакво произвољно радирање је контраиндиковано јер доводи до импресије, запаљења па чак и некрозе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гингив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66"/>
                </a:solidFill>
                <a:latin typeface="Arial"/>
              </a:rPr>
              <a:t>Широко површинско налегање без притиска у видљивим подручјима је неминовно и иде на рачун хигијене те се од пацијента захтева безпрекора хигијена усата и зуб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66"/>
                </a:solidFill>
                <a:latin typeface="Arial"/>
              </a:rPr>
              <a:t>Код свих мостних конструкција без обзира на део вилице посебно треба обратити пажњу на простор између тела моста и спојнице-простор за интерденталну папилу у случају израде мостова са већим бројем круна повезаних у блок. У сваком од ових случајева увек је потребно да се обезбеди простор од најмање 1,5мм. Папила ни у ком случају несме да буде притиснута или нагњечена јер то оштећује пародонцијум и смањује дужину ношења протетске конструкциј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748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Од </a:t>
            </a:r>
            <a:r>
              <a:rPr b="1" lang="sr-Latn-CS" sz="3200" spc="-1" strike="noStrike">
                <a:solidFill>
                  <a:srgbClr val="99cc00"/>
                </a:solidFill>
                <a:latin typeface="Arial"/>
              </a:rPr>
              <a:t>облика повезивања тела моста са котвом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зависи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могућност самочишћења  тј. одржавање хигијен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траума пародонта носача изазвана недовољним простором што води хроничном запаљењ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врстина и могућност за деформацију тела због присуства високе концентрације напрезањ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Величина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висина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повезивања треба износити најмање 3м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99cc00"/>
                </a:solidFill>
                <a:latin typeface="Arial"/>
              </a:rPr>
              <a:t>Улога моста</a:t>
            </a:r>
            <a:r>
              <a:rPr b="1" lang="en-US" sz="3000" spc="-1" strike="noStrike">
                <a:solidFill>
                  <a:srgbClr val="99cc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1. Затварање дефеката и успостављање континуитета зубног низа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2. Спречавање инклинације зуба који ограничавају дефек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3. Постизање контактних површина између котви и преосталих зуба што чува интерденталне папиле и омогућава прерасподелу притиска на преостале зубе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4. Спречавање елонгације антагониста 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Годонов феномен</a:t>
            </a:r>
            <a:r>
              <a:rPr b="1" lang="en-US" sz="30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5. Заштита алвеоларног гребена на месту дефекта и пародонцијума зуба носача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66"/>
                </a:solidFill>
                <a:latin typeface="Arial"/>
              </a:rPr>
              <a:t>6. Успостављање оклузије, артикулације, мастикације, фонетике и естетике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cc00"/>
                </a:solidFill>
                <a:latin typeface="Arial"/>
              </a:rPr>
              <a:t>Услови за израду моста 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Ограни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н дефект зубног низа (недостатак 2 суседна зуба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Јаки,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рсти, витални или коректно ендододонтски санирани зуби носа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Да није велики распон-недостатак 2 б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на зуб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нклинација стубних зуба да није велика-24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Растојање изм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у антагониста и алвеоларног гребена у оклузији да је довољно велик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Санирана уста , зуби и одр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вање добре хигијен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Latn-CS" sz="2400" spc="-1" strike="noStrike">
                <a:solidFill>
                  <a:srgbClr val="99ff66"/>
                </a:solidFill>
                <a:latin typeface="Arial"/>
              </a:rPr>
              <a:t>Предности мостних конструк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Осмишљено планиран и ваљано израђен мост обезбеђује терапију и превенцију оралних ткива какве се не могу постићи ни са једном другом врстом надокнаде. Поред тога, и већина пацијената се радије опредељује за мост из следећих разлога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1. То је физиолошки најповољнија надокнада због денталног преношења оптерећења. Посредством проприоцептора у периодонцијуму и одговарајућих рефлексних путева усмерава се жвачни процес па је жвачни учинак моста сличан звачном учинку природних зуба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2. Мост не ремети фонацију јер је надокнада ограничена на простор који су испуњавали природни зуби те су услови за фонацију слични условима са природним зубима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3. Сачуван је осећај за укус и опип хране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4. Адаптација пацијента на надокнаду је брза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5. Постиже се заштита зуба носача од каријеса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6. Естетски ефекти су изванредни, нарочито када се као градивни материјал користи металокерамика и керам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4110120" y="1447920"/>
            <a:ext cx="373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79280" y="49680"/>
            <a:ext cx="8713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9ff66"/>
                </a:solidFill>
                <a:latin typeface="Arial"/>
              </a:rPr>
              <a:t>Мостови имају и недостатке</a:t>
            </a:r>
            <a:r>
              <a:rPr b="1" lang="en-US" sz="2800" spc="-1" strike="noStrike">
                <a:solidFill>
                  <a:srgbClr val="99ff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1. Израда моста захтева велико брушење здравог зубног ткив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2. Услови за одржавање оралне хигијене су после цементирања моста неповољнији у поређењу са условима који постоје у интактном зубном низ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3. Финансијски оптерећују пацијента, нарочито када се као градивни материја</a:t>
            </a:r>
            <a:r>
              <a:rPr b="1" lang="sr-RS" sz="2800" spc="-1" strike="noStrike">
                <a:solidFill>
                  <a:srgbClr val="ffff00"/>
                </a:solidFill>
                <a:latin typeface="Arial"/>
              </a:rPr>
              <a:t>ли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 користе легуре племенитих мета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Наведене недостатке треба схватити условно. Када год је могуће, треба се определити за израду мос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ff33"/>
                </a:solidFill>
                <a:latin typeface="Arial"/>
              </a:rPr>
              <a:t>Фиксна протетика је наука и уметност поновног успостављања физиолошког облика зуба који је нарушен губитком зубних ткива и поремећајима у развоју зубних структу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ff33"/>
                </a:solidFill>
                <a:latin typeface="Arial"/>
              </a:rPr>
              <a:t>Фиксна протетика обухвата надокнаду једног или више изгубљених зуба мостом до реконструкције у целини једног или оба зубна низа.</a:t>
            </a:r>
            <a:br>
              <a:rPr sz="2800"/>
            </a:br>
            <a:r>
              <a:rPr b="1" lang="sr-CS" sz="2800" spc="-1" strike="noStrike">
                <a:solidFill>
                  <a:srgbClr val="ccff33"/>
                </a:solidFill>
                <a:latin typeface="Arial"/>
              </a:rPr>
              <a:t>Вештачком фиксном надокнадом успоставља се поново анатомски облик оштећеног коронарног дела зуба и обезбеђује његово учешће у оралним функцијама.</a:t>
            </a:r>
            <a:br>
              <a:rPr sz="2800"/>
            </a:br>
            <a:r>
              <a:rPr b="1" lang="sr-CS" sz="2800" spc="-1" strike="noStrike">
                <a:solidFill>
                  <a:srgbClr val="ccff33"/>
                </a:solidFill>
                <a:latin typeface="Arial"/>
              </a:rPr>
              <a:t>Фиксне надокнаде се деле на привремене и стал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b7"/>
                </a:solidFill>
                <a:latin typeface="Arial"/>
              </a:rPr>
              <a:t>ПРИВРЕМЕНЕ ФИКСНЕ НАДОКНА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33"/>
                </a:solidFill>
                <a:latin typeface="Arial"/>
              </a:rPr>
              <a:t>У привремене фиксне надокнаде спадају заштитне крунице и мостови. Привремене крунице се најчешће израђују од вештачке смоле и штите састругане зубе и околна ткива до цементирања сталне фиксне надокнаде. Скинут стари мост, са одређеном корекцијом, такође се може користити као привремени мос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33"/>
                </a:solidFill>
                <a:latin typeface="Arial"/>
              </a:rPr>
              <a:t>Привремени мост је надокнада за изгубљени зуб (или више зуба) који се најчешће израђује од вештачке смоле. У те сврхе користи се и адаптиран, скинути стари мос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33"/>
                </a:solidFill>
                <a:latin typeface="Arial"/>
              </a:rPr>
              <a:t>Привремене фиксне надокнаде могу се израђивати директном или индиректном методом. Прва метода обухвата израду привремених надокнада у устима, а друга укључује израду ових надокнада у лабораторији на одговарајућем модел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Тиме се елимини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тетно дејство хоризонталних и вертикалних сила и преоптер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ње зуба.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роке и равне мастикаторне повр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не тела моста преоптер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ују пародонцијум носа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, имају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 у обзир да се храна само гњ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ме се пов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ва број затварања зуба и време потребно да се храна самеље и припреми за гутање. Ефекат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акања у тим слу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ајевима је минималан а замор мускулатуре вел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Узимају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 у обзир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рстину моста, редукција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рине тела моста не треба да је претерана и из тог разлога, јер се са редукцијом смањује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рстина тела моста и м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 до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 до савијања или ломљења тела мос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ffff66"/>
                </a:solidFill>
                <a:latin typeface="Arial"/>
              </a:rPr>
              <a:t>СТАЛНЕ ФИКСНЕ НАДОКНАДЕ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ccff33"/>
                </a:solidFill>
                <a:latin typeface="Arial"/>
              </a:rPr>
              <a:t>У сталне фиксне надокнаде спадају инлеји, ливене надоградње, крунице и мостови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ccff33"/>
                </a:solidFill>
                <a:latin typeface="Arial"/>
              </a:rPr>
              <a:t>Инлеји се ретко користе као котве за мост јер не обезбеђују довољну ретенцију. У одређеним случајевима могу се користити као слабија котва и везати за тело моста по принципу везних елеменат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ccff33"/>
                </a:solidFill>
                <a:latin typeface="Arial"/>
              </a:rPr>
              <a:t>Ливена надоградња надокнађује изгубљени део крунице зуба и помоћу кочића фиксира се у канал корена. Са преосталим делом зубне супстанце има облик саструганог зуба за вештачку круницу. Израђује се у једном комаду за једнокорене зубе, а за вишекорене, када није могуће успоставити параиелитет између испрепарираних канала, из два дел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168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901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Latn-CS" sz="3600" spc="-1" strike="noStrike">
                <a:solidFill>
                  <a:srgbClr val="ff9900"/>
                </a:solidFill>
                <a:latin typeface="Arial"/>
              </a:rPr>
              <a:t>ПОДЕЛА МОСТ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Latn-CS" sz="3000" spc="-1" strike="noStrike">
                <a:solidFill>
                  <a:srgbClr val="ffff00"/>
                </a:solidFill>
                <a:latin typeface="Arial"/>
              </a:rPr>
              <a:t>Подела мостова се може заснивати на више критеријума. Основне поделе су следеће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51"/>
              </a:spcBef>
              <a:buClr>
                <a:srgbClr val="99ff66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Latn-CS" sz="3000" spc="-1" strike="noStrike">
                <a:solidFill>
                  <a:srgbClr val="ffff00"/>
                </a:solidFill>
                <a:latin typeface="Arial"/>
              </a:rPr>
              <a:t>топографска подела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51"/>
              </a:spcBef>
              <a:buClr>
                <a:srgbClr val="99ff66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Latn-CS" sz="3000" spc="-1" strike="noStrike">
                <a:solidFill>
                  <a:srgbClr val="ffff00"/>
                </a:solidFill>
                <a:latin typeface="Arial"/>
              </a:rPr>
              <a:t>подела мостова на основу типа спојница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51"/>
              </a:spcBef>
              <a:buClr>
                <a:srgbClr val="99ff66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Latn-CS" sz="3000" spc="-1" strike="noStrike">
                <a:solidFill>
                  <a:srgbClr val="ffff00"/>
                </a:solidFill>
                <a:latin typeface="Arial"/>
              </a:rPr>
              <a:t>подела мостова на основу материјала од кога су израђени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751"/>
              </a:spcBef>
              <a:buClr>
                <a:srgbClr val="99ff66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Latn-CS" sz="3000" spc="-1" strike="noStrike">
                <a:solidFill>
                  <a:srgbClr val="ffff00"/>
                </a:solidFill>
                <a:latin typeface="Arial"/>
              </a:rPr>
              <a:t>подела мостова на основу броја недостајућих зуба и положаја безубих простора у зубном луку.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3200" spc="-1" strike="noStrike">
                <a:solidFill>
                  <a:srgbClr val="ff9900"/>
                </a:solidFill>
                <a:latin typeface="Arial"/>
              </a:rPr>
              <a:t>Топографска подела н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предње или мостове интерканине региј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бочне или мостове трансканине региј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семициркуларне мостове који обухватају читаву дужину зубног лука, укључују већи број носача и имају 10 до 14 чланов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52280" y="115920"/>
            <a:ext cx="88394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3200" spc="-1" strike="noStrike">
                <a:solidFill>
                  <a:srgbClr val="ff9900"/>
                </a:solidFill>
                <a:latin typeface="Arial"/>
              </a:rPr>
              <a:t>Подела мостова на основу типа спојниц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3200" spc="-1" strike="noStrike">
                <a:solidFill>
                  <a:srgbClr val="ff9900"/>
                </a:solidFill>
                <a:latin typeface="Arial"/>
              </a:rPr>
              <a:t>н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фиксне, у којих су сви спојеви ливени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полуфиксне, у којих је један од спојева остварен посредством атечмена или зглобне вез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3" descr="C:\Users\Jelena Todic\Downloads\images-1(1).jpeg"/>
          <p:cNvPicPr/>
          <p:nvPr/>
        </p:nvPicPr>
        <p:blipFill>
          <a:blip r:embed="rId1"/>
          <a:stretch/>
        </p:blipFill>
        <p:spPr>
          <a:xfrm>
            <a:off x="0" y="3429000"/>
            <a:ext cx="3348000" cy="2508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Users\Jelena Todic\Downloads\images.jpeg"/>
          <p:cNvPicPr/>
          <p:nvPr/>
        </p:nvPicPr>
        <p:blipFill>
          <a:blip r:embed="rId2"/>
          <a:stretch/>
        </p:blipFill>
        <p:spPr>
          <a:xfrm>
            <a:off x="2916360" y="4797360"/>
            <a:ext cx="3384360" cy="2011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C:\Users\Jelena Todic\Downloads\images-4.jpeg"/>
          <p:cNvPicPr/>
          <p:nvPr/>
        </p:nvPicPr>
        <p:blipFill>
          <a:blip r:embed="rId3"/>
          <a:stretch/>
        </p:blipFill>
        <p:spPr>
          <a:xfrm>
            <a:off x="5835600" y="3416400"/>
            <a:ext cx="330840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9900"/>
                </a:solidFill>
                <a:latin typeface="Arial"/>
              </a:rPr>
              <a:t>Подела мостова на основу броја недостајућих зуба и положаја безубих простора у зубном луку н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66"/>
              </a:buClr>
              <a:buFont typeface="Arial"/>
              <a:buAutoNum type="alphaL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једноставн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66"/>
              </a:buClr>
              <a:buFont typeface="Arial"/>
              <a:buAutoNum type="alphaL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сложе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У неких случајева број недостајућих зуба и распоред безубих простора су такви да је могућно релативно једноставним конструкционим решењем обезбедити санацију крезубости мостом. У других се ово може постићи само сложеном конструкцијом, која подразумева укључивање секундарних носача и зглобних вез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58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700" spc="-1" strike="noStrike">
                <a:solidFill>
                  <a:srgbClr val="ff9900"/>
                </a:solidFill>
                <a:latin typeface="Arial"/>
              </a:rPr>
              <a:t>ЗАХТЕВИ КОЈЕ МОРА ИСПУЊАВАТИ ДЕНТАЛНИ МОСТ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Конструкција денталног моста треба истовремено да удовољ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а) законима механике који се користе у инжењерској пракс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б) законима биомеханик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ц) хигијенским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д) естетским захтеви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Механика је наука о законима равнотеже и кретања тела. Дели се на: </a:t>
            </a:r>
            <a:r>
              <a:rPr b="1" lang="sr-CS" sz="2400" spc="-1" strike="noStrike">
                <a:solidFill>
                  <a:srgbClr val="ff9900"/>
                </a:solidFill>
                <a:latin typeface="Arial"/>
              </a:rPr>
              <a:t>статику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, науку о равнотежи тела у мировању, </a:t>
            </a:r>
            <a:r>
              <a:rPr b="1" lang="sr-CS" sz="2400" spc="-1" strike="noStrike">
                <a:solidFill>
                  <a:srgbClr val="ff9900"/>
                </a:solidFill>
                <a:latin typeface="Arial"/>
              </a:rPr>
              <a:t>кинематику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, учење о кретању у чисто геометријском смислу и </a:t>
            </a:r>
            <a:r>
              <a:rPr b="1" lang="sr-CS" sz="2400" spc="-1" strike="noStrike">
                <a:solidFill>
                  <a:srgbClr val="ff9900"/>
                </a:solidFill>
                <a:latin typeface="Arial"/>
              </a:rPr>
              <a:t>динамику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, учење о кретању под утицајем сила. За фикснопротетску стоматолошку праксу најзначајнији су закони стати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534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ff9900"/>
                </a:solidFill>
                <a:latin typeface="Arial"/>
              </a:rPr>
              <a:t>СТАТИКА МО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Три су правила статике значајна за конструкцију мо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ff5050"/>
                </a:solidFill>
                <a:latin typeface="Arial"/>
              </a:rPr>
              <a:t>МОСТ МОРА БИТИ КРУТА КОНСТРУКЦИЈА КАКО СЕ НЕБ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И</a:t>
            </a:r>
            <a:r>
              <a:rPr b="1" lang="sr-CS" sz="2400" spc="-1" strike="noStrike">
                <a:solidFill>
                  <a:srgbClr val="ff5050"/>
                </a:solidFill>
                <a:latin typeface="Arial"/>
              </a:rPr>
              <a:t> САВИЈАО ПОД ДЕЈСТВОМ ОКЛУЗАЛНИХ СИЛА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У механичком смислу мост се може упоредити са гредом подупртом или ослоњеном на два краја. Карактеристика греде је да се под оптерећењем савиј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3" descr="Untitled-24"/>
          <p:cNvPicPr/>
          <p:nvPr/>
        </p:nvPicPr>
        <p:blipFill>
          <a:blip r:embed="rId1"/>
          <a:stretch/>
        </p:blipFill>
        <p:spPr>
          <a:xfrm>
            <a:off x="2050920" y="3860640"/>
            <a:ext cx="4608720" cy="27864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Отпорност греде на савијање је највећа сила коју ова може поднети без савијања. Она зависи 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специфичне отпорности 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савијање материјала о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кога је греда израђе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99ff66"/>
                </a:solidFill>
                <a:latin typeface="Arial"/>
              </a:rPr>
              <a:t>2.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 дужине греде у обрнутој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сразмер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99ff66"/>
                </a:solidFill>
                <a:latin typeface="Arial"/>
              </a:rPr>
              <a:t>3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. висине греде 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директној сразмер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3" descr="Untitled-22"/>
          <p:cNvPicPr/>
          <p:nvPr/>
        </p:nvPicPr>
        <p:blipFill>
          <a:blip r:embed="rId1"/>
          <a:stretch/>
        </p:blipFill>
        <p:spPr>
          <a:xfrm>
            <a:off x="6477120" y="1143000"/>
            <a:ext cx="2666880" cy="302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Untitled-23"/>
          <p:cNvPicPr/>
          <p:nvPr/>
        </p:nvPicPr>
        <p:blipFill>
          <a:blip r:embed="rId2"/>
          <a:stretch/>
        </p:blipFill>
        <p:spPr>
          <a:xfrm>
            <a:off x="6335640" y="4508640"/>
            <a:ext cx="2808360" cy="2060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6104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99ff66"/>
                </a:solidFill>
                <a:latin typeface="Arial"/>
              </a:rPr>
              <a:t>Отпорност денталног моста на савијање, према томе, зависи од</a:t>
            </a: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а) материјала од кога је мост израђен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б) дужине или распона моста, односно броја недостајућих зуба које мост надокнађуј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ц) оклузогингивалне висине мо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7361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Мост малог распона, мост од три члана на пример, мање ће се савијати од моста већег распона, на пример мост од четири члана ако су сви остали услови и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Мост са већом оклузогингивалном висином мање ће се савијати од моста чија је оклузогингивална висина мала када су сви остали услови и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Будући да су распон, односно дужина и гингивалнооклузална висина моста константне, специфичне за сваки поједини случај, правилним избором градивног материјала треба обезбедити потребну отпорност моста на савијањ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На то ути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-ду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на тела моста (размак изм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у носа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-висина тела моста-растојање изм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у алвеоларног   гребена и антагониста у затвореним усти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У колико је ова висина в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 и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рина моста мо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бити в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 и обрнуто.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Угао који заклапа орална повр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на тела моста са хоризонталом у горњој вилици не треба бити мањи од 45º обзиром да то обезб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ује довољно само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ње простора испод мо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Мостови малог распона (један до два међучлана) могу се израђивати од легура злата тип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III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. Међутим, за мостове великог распона (три међучлана) или мостове великог распона на кратким носачима треба користити легуре злата тип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IV</a:t>
            </a: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. Уколико мост није довољно ригидан, он се под оптерећењем у устима савија, због чега, временом, могу настати: а) трајне деформације моста, б) пуцање моста, ц) одвајање и испадање фасета, д) одвајање рубова котви од зуба носача и е) расцементирање надокнаде. Тело моста које се савија делује на носаче као полуга која има тенденцију да их нагне или ротира, што узрокује прогресивну деструкцију њиховог потпорног апарата и расклаћењ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Untitled-26"/>
          <p:cNvPicPr/>
          <p:nvPr/>
        </p:nvPicPr>
        <p:blipFill>
          <a:blip r:embed="rId1"/>
          <a:stretch/>
        </p:blipFill>
        <p:spPr>
          <a:xfrm>
            <a:off x="3886200" y="4191120"/>
            <a:ext cx="388620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9900"/>
                </a:solidFill>
                <a:latin typeface="Arial"/>
              </a:rPr>
              <a:t>ТЕЛО МОСТА ТРЕБА ДА ЈЕ УМЕТНУТО ИЗМЕЂУ НОСАЧА, ОДНОСНО ИЗМЕЂУ КОТВ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Такозвани висећи мост или апендикс у кога тело моста није уметнуто већ је једнострано везано за зуб носач није статички исправан. Он се понаша као полуга која под дејством вертикалних сила нагиње зуб носач, а под дејством хоризонталних - ротира га око аксијалне осови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3" descr="Untitled-25"/>
          <p:cNvPicPr/>
          <p:nvPr/>
        </p:nvPicPr>
        <p:blipFill>
          <a:blip r:embed="rId1"/>
          <a:stretch/>
        </p:blipFill>
        <p:spPr>
          <a:xfrm>
            <a:off x="2286000" y="4191120"/>
            <a:ext cx="4572000" cy="226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3200" spc="-1" strike="noStrike">
                <a:solidFill>
                  <a:srgbClr val="ff9900"/>
                </a:solidFill>
                <a:latin typeface="Arial"/>
              </a:rPr>
              <a:t>ТЕЛО МОСТА ТРЕБА ДА У ПРАВОЈ ЛИНИЈИ ПОВЕЗУЈЕ СРЕДИНЕ НОСА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То је треће правило стати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Уколико тело моста одступа од праве линије која повезује средине носача, оно се током функционалних оптерећења у устима понаша као полуга која нагиње или ротира носаче. Интензитет ових непожељних ефеката је сразмеран дужини крака полуга. Дужина крака полуге је удаљено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најизбоченије тачке те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моста од праве лин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која повезује носач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Untitled-27"/>
          <p:cNvPicPr/>
          <p:nvPr/>
        </p:nvPicPr>
        <p:blipFill>
          <a:blip r:embed="rId1"/>
          <a:stretch/>
        </p:blipFill>
        <p:spPr>
          <a:xfrm>
            <a:off x="5638680" y="4548240"/>
            <a:ext cx="3505320" cy="2309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534520" cy="58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Када се израђују бочни мостови, због анатомске конфигурације гребена у трансканиној регији, ово правило се без већих тешкоћа може испоштова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Насупрот томе, тело већине предњих мостова мора бити лучно, односно мора лежати изван линије која повезује средине носача. Наиме, оно мора испунити простор који су заузимали природни изгубљени зуби и тиме обезбедити физиолошко лежање и функцију горње усне, као и простор за језик, што је изузетно важно са естетског и фонетског аспекта. Лучно тело предњег моста на носаче делује као полуг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8390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Дужина крака полуге у сваком поједином случају зависи од анатомске конфигурације безубог алвеоларног гребена и броја и распореда недостајућих, односно преосталих зуба. Безуби алвеоларни гребен у пределу фронта може бити: а) изразито избочен, б) сре-дње избочен и ц) скоро рава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Најтежа је ситуација када је гребен изразито избочен а недостају сва четири секутића. Један заостали секутић знатно ублажава ефекте полуге</a:t>
            </a:r>
            <a:r>
              <a:rPr b="1" i="1" lang="sr-C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Untitled-28"/>
          <p:cNvPicPr/>
          <p:nvPr/>
        </p:nvPicPr>
        <p:blipFill>
          <a:blip r:embed="rId1"/>
          <a:stretch/>
        </p:blipFill>
        <p:spPr>
          <a:xfrm>
            <a:off x="5940360" y="2997360"/>
            <a:ext cx="2971800" cy="1917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5715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CS" sz="2600" spc="-1" strike="noStrike">
                <a:solidFill>
                  <a:srgbClr val="ffff00"/>
                </a:solidFill>
                <a:latin typeface="Arial"/>
              </a:rPr>
              <a:t>Када се израђују лучни мостови, треба спречити непожељне ефекте полуге (нагињање носача у току функционалних оптерећења) бочним ојачавањем примарних носача, односно укључивањем секундарних носача. При томе важи правило да: "Дужина управног растојања између праве линије која спаја дисталне површине секундарних носача и праве линије која спаја средине примарних носача треба да буде иста или већа од дужине крака полуге који се секундарним носачима неутралиш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3" descr="Untitled-29"/>
          <p:cNvPicPr/>
          <p:nvPr/>
        </p:nvPicPr>
        <p:blipFill>
          <a:blip r:embed="rId1"/>
          <a:stretch/>
        </p:blipFill>
        <p:spPr>
          <a:xfrm>
            <a:off x="5867280" y="3962520"/>
            <a:ext cx="3276720" cy="2278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https://encrypted-tbn1.gstatic.com/images?q=tbn:ANd9GcQ26Tpb5zJoql3m7nRKaUUiTqdVlE-z6ReQno2DWsmtQoRD12P2bw"/>
          <p:cNvPicPr/>
          <p:nvPr/>
        </p:nvPicPr>
        <p:blipFill>
          <a:blip r:embed="rId1"/>
          <a:stretch/>
        </p:blipFill>
        <p:spPr>
          <a:xfrm>
            <a:off x="0" y="0"/>
            <a:ext cx="4788000" cy="3587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http://drramseyamin.typepad.com/.a/6a01053691a41c970c0115715af802970c-320wi"/>
          <p:cNvPicPr/>
          <p:nvPr/>
        </p:nvPicPr>
        <p:blipFill>
          <a:blip r:embed="rId2"/>
          <a:stretch/>
        </p:blipFill>
        <p:spPr>
          <a:xfrm>
            <a:off x="4500720" y="337500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IMG_8604"/>
          <p:cNvPicPr/>
          <p:nvPr/>
        </p:nvPicPr>
        <p:blipFill>
          <a:blip r:embed="rId1"/>
          <a:stretch/>
        </p:blipFill>
        <p:spPr>
          <a:xfrm>
            <a:off x="0" y="0"/>
            <a:ext cx="4675320" cy="4191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http://drkezian.com/los-angeles-dentist-blog/wp-content/uploads/2013/12/Cosmetic-Dentistry.jpg"/>
          <p:cNvPicPr/>
          <p:nvPr/>
        </p:nvPicPr>
        <p:blipFill>
          <a:blip r:embed="rId2"/>
          <a:stretch/>
        </p:blipFill>
        <p:spPr>
          <a:xfrm>
            <a:off x="4356000" y="3043080"/>
            <a:ext cx="4788000" cy="3814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http://cdn.whatclinic.com/dentists/croatia/rovinj/trident/thumbnails/33f6e6a7c6fb0ec7/bridge_2.jpg?&amp;float-y=0.25"/>
          <p:cNvPicPr/>
          <p:nvPr/>
        </p:nvPicPr>
        <p:blipFill>
          <a:blip r:embed="rId1"/>
          <a:stretch/>
        </p:blipFill>
        <p:spPr>
          <a:xfrm>
            <a:off x="539640" y="333360"/>
            <a:ext cx="4283280" cy="5975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https://encrypted-tbn1.gstatic.com/images?q=tbn:ANd9GcR8cjbh8ZXGC5EBMW5mR2oO4_-v9_r62Sxki79625wA1hVW6JEHqYKSyg"/>
          <p:cNvPicPr/>
          <p:nvPr/>
        </p:nvPicPr>
        <p:blipFill>
          <a:blip r:embed="rId2"/>
          <a:stretch/>
        </p:blipFill>
        <p:spPr>
          <a:xfrm>
            <a:off x="5364000" y="2276640"/>
            <a:ext cx="3456000" cy="27684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4795920" cy="2962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4356000" y="404640"/>
            <a:ext cx="4788000" cy="3009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3"/>
          <a:stretch/>
        </p:blipFill>
        <p:spPr>
          <a:xfrm>
            <a:off x="0" y="3500280"/>
            <a:ext cx="5003640" cy="3030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4"/>
          <a:stretch/>
        </p:blipFill>
        <p:spPr>
          <a:xfrm>
            <a:off x="4427640" y="4027320"/>
            <a:ext cx="4716360" cy="2830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рина тела моста пов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ва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врстину тела моста са математи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ком (аритметичком) прогресијом нпр. ако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рина моста износи 5мм код одр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не висине и распона носа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 овај мост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 имати одр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ну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врстину.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Пов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њем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рине на 10мм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врстина моста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 се пов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ти тако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 дупло.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Висина моста пов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ав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врстину тела моста геометријском прогресијом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Матер</a:t>
            </a:r>
            <a:r>
              <a:rPr b="1" lang="sr-RS" sz="3200" spc="-1" strike="noStrike">
                <a:solidFill>
                  <a:srgbClr val="ffff66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јал за израду оклузалне повр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не треба да поседује сли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на својства тврдо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отпорности и абразивности ка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о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гл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ђ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зуба и да обезб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ује добру естети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http://stlouisdentalimplantsdentist.com/wp-content/uploads/2011/03/dental-implants-vs-bridges.jpg"/>
          <p:cNvPicPr/>
          <p:nvPr/>
        </p:nvPicPr>
        <p:blipFill>
          <a:blip r:embed="rId1"/>
          <a:stretch/>
        </p:blipFill>
        <p:spPr>
          <a:xfrm>
            <a:off x="684360" y="692280"/>
            <a:ext cx="792144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https://encrypted-tbn0.gstatic.com/images?q=tbn:ANd9GcT7wy4HRHR9cOYRKTTYha0fLPAydIOxHDIjH8jAC9GNsbFMdoc1"/>
          <p:cNvPicPr/>
          <p:nvPr/>
        </p:nvPicPr>
        <p:blipFill>
          <a:blip r:embed="rId1"/>
          <a:stretch/>
        </p:blipFill>
        <p:spPr>
          <a:xfrm>
            <a:off x="0" y="0"/>
            <a:ext cx="5545080" cy="4118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http://www.hannover-dental.eu/cms/wp-content/uploads/telescopic_bridge.jpg"/>
          <p:cNvPicPr/>
          <p:nvPr/>
        </p:nvPicPr>
        <p:blipFill>
          <a:blip r:embed="rId2"/>
          <a:stretch/>
        </p:blipFill>
        <p:spPr>
          <a:xfrm>
            <a:off x="4751280" y="3921120"/>
            <a:ext cx="43927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820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Јаке силе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које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трају кратко изазивају реверзибилне промене на пародонцијум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Дуга</a:t>
            </a:r>
            <a:r>
              <a:rPr b="1" lang="sr-Latn-CS" sz="2800" spc="-1" strike="noStrike">
                <a:solidFill>
                  <a:srgbClr val="ffcc00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ко дејство слабијих сила, стимули</a:t>
            </a:r>
            <a:r>
              <a:rPr b="1" lang="sr-Latn-CS" sz="2800" spc="-1" strike="noStrike">
                <a:solidFill>
                  <a:srgbClr val="ffcc00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е ресор</a:t>
            </a:r>
            <a:r>
              <a:rPr b="1" lang="sr-Latn-CS" sz="2800" spc="-1" strike="noStrike">
                <a:solidFill>
                  <a:srgbClr val="ffcc00"/>
                </a:solidFill>
                <a:latin typeface="Arial"/>
              </a:rPr>
              <a:t>п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цију кости, док кра</a:t>
            </a:r>
            <a:r>
              <a:rPr b="1" lang="sr-Latn-CS" sz="2800" spc="-1" strike="noStrike">
                <a:solidFill>
                  <a:srgbClr val="ffcc00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е дејство слабијих сила стимули</a:t>
            </a:r>
            <a:r>
              <a:rPr b="1" lang="sr-Latn-CS" sz="2800" spc="-1" strike="noStrike">
                <a:solidFill>
                  <a:srgbClr val="ffcc00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е апозицију кости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Поставља се питање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та је боље да се примени: в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 оптер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ње за кра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 време или обрнуто мање оптер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ње за ду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 време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 број аутора мисли да редуцирана повр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на треба да се ради само ако број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ланова тела моста је ве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 од 2, када је отпорност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ланова смањена (код фасетира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) или ако тело моста </a:t>
            </a:r>
            <a:r>
              <a:rPr b="1" lang="sr-RS" sz="2800" spc="-1" strike="noStrike">
                <a:solidFill>
                  <a:srgbClr val="ffff66"/>
                </a:solidFill>
                <a:latin typeface="Arial"/>
              </a:rPr>
              <a:t>нема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довољну виси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Ве</a:t>
            </a:r>
            <a:r>
              <a:rPr b="1" lang="sr-Latn-CS" sz="36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ина мостова у доњој вилици захтева из естетских разлога фасетирану оклузалну повр</a:t>
            </a:r>
            <a:r>
              <a:rPr b="1" lang="sr-Latn-CS" sz="36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ину.</a:t>
            </a:r>
            <a:r>
              <a:rPr b="1" lang="sr-Latn-C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Акрилатне масе нису погодне као трајни матерјали за израду оклузалних повр</a:t>
            </a:r>
            <a:r>
              <a:rPr b="1" lang="sr-Latn-CS" sz="36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ина јер немају потребну тврдо</a:t>
            </a:r>
            <a:r>
              <a:rPr b="1" lang="sr-Latn-CS" sz="36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у и отпорност на абразију.</a:t>
            </a:r>
            <a:r>
              <a:rPr b="1" lang="sr-Latn-C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Повољни су поку</a:t>
            </a:r>
            <a:r>
              <a:rPr b="1" lang="sr-Latn-CS" sz="36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аји са посебним металним обезбе</a:t>
            </a:r>
            <a:r>
              <a:rPr b="1" lang="sr-Latn-CS" sz="36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ива</a:t>
            </a:r>
            <a:r>
              <a:rPr b="1" lang="sr-Latn-CS" sz="36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има оклузије (металним стопама)</a:t>
            </a:r>
            <a:r>
              <a:rPr b="1" lang="sr-Latn-C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са којима би се спре</a:t>
            </a:r>
            <a:r>
              <a:rPr b="1" lang="sr-Latn-CS" sz="36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ила абразија али нису постигнути о</a:t>
            </a:r>
            <a:r>
              <a:rPr b="1" lang="sr-Latn-CS" sz="36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екивани резултати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За оклузалну повр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ну могу се користити :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племенити метали и синтетске масе са великом тврдо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ом и отпорно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ћ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у на абразију као и смањеном конт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р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акцијом као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то је код нас  “ИСОСИТ”,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“ИВОКЛАР”, ”ДУРОГАЛ”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Много бољи матерјали од акрилата за оклузалну повр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ину су керами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ке масе.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Оне имају потребну 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врстину и отпорност на абразију и ако се правилно приме</a:t>
            </a:r>
            <a:r>
              <a:rPr b="1" lang="sr-Latn-CS" sz="3200" spc="-1" strike="noStrike">
                <a:solidFill>
                  <a:srgbClr val="ffff66"/>
                </a:solidFill>
                <a:latin typeface="Arial"/>
              </a:rPr>
              <a:t>не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у потпуности задовољавај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77384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2.</a:t>
            </a:r>
            <a:r>
              <a:rPr b="1" lang="sr-Latn-CS" sz="32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СРЕДЊИ ДЕО ТЕЛА МО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Овај део одговара висини тела моста а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ч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рстина моста и његова отпорност на притисак 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вакања зависе од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-висине тела моста-х</a:t>
            </a:r>
            <a:r>
              <a:rPr b="1" lang="en-US" sz="2800" spc="-1" strike="noStrike" baseline="30000">
                <a:solidFill>
                  <a:srgbClr val="ffff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рине оклузалне повр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ш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не-2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-ду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ж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ине тела моста-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-дебљ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не тела моста-</a:t>
            </a:r>
            <a:r>
              <a:rPr b="1" lang="el-GR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-матерјала од кога је мост изра</a:t>
            </a:r>
            <a:r>
              <a:rPr b="1" lang="sr-Latn-CS" sz="2800" spc="-1" strike="noStrike">
                <a:solidFill>
                  <a:srgbClr val="ffff66"/>
                </a:solidFill>
                <a:latin typeface="Arial"/>
              </a:rPr>
              <a:t>ђ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3T01:06:56Z</dcterms:created>
  <dc:creator>Zorica</dc:creator>
  <dc:description/>
  <dc:language>en-US</dc:language>
  <cp:lastModifiedBy>Office2010</cp:lastModifiedBy>
  <dcterms:modified xsi:type="dcterms:W3CDTF">2017-07-16T15:43:08Z</dcterms:modified>
  <cp:revision>46</cp:revision>
  <dc:subject/>
  <dc:title>Slide 1</dc:title>
</cp:coreProperties>
</file>